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D2D-765F-4AEB-B9B0-7F85DE90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B2D-9454-4A45-9A5C-EB378460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4A550E-F5E4-4018-8938-3341A260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E84D3-BF26-46F5-94B6-EC205852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6F64A-90BC-45A2-9FE7-6D692D0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955F9-3852-4D2F-8980-4A5AA11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31665-7F0B-4B19-9A68-3CA06F2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BF6F2-B102-45DD-8C85-B5016431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6FD23D-4192-4465-AF87-383FFFEF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DCE61-3A25-40A8-84A8-E628716A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9F33AF-77AB-4BFC-AA86-B06CC82B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E50-35E4-4939-AE75-7807C934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6B4-5104-419F-A65E-2F3E7B98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DC79-D940-4B1D-B068-345EA629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FFD3-4EEE-4D82-9161-F8887FE9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1522-0596-4B99-BD51-D39D0F66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6767-ABBF-4F47-BAA7-8F4E5527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5A56-07AC-4D4B-8908-58A5A68B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7A2-845C-4A3F-9AE1-DAE89D80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95CC-9E76-4EA2-8712-C2BB2AE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381-7482-46D1-8187-D5242B8D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4F69-D646-4D0C-9057-445A504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F8C6-4B00-4F22-8631-3BB8490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E5B8-0FDD-484B-BF8C-2522E9C4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4941-AA2A-4D04-A152-5D650239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F478-E76B-40C9-9EE9-829BAA0E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89B2-5272-4791-B81B-F75AC686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57FB-B822-4767-BD69-0EC7FC35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7E12E-B0B9-4C53-A998-11842F93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73BE-E56C-4BC8-876C-4372D0D2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8E58-DE65-40EA-A9BB-0765F98E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276-61B1-432D-BA88-8AA05336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2E41-683D-45FD-AC1B-841F246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0AD6-855F-49A2-B7FB-3D598EE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FB08-CA5C-47BC-A3CE-E15209F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A3E4-8802-4BFB-90B3-9CA2B00D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14EE-ECEB-4255-AE1C-61334F96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B651-E9B3-45E1-AC3D-B92A9AC2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C821-107B-4C45-BC04-089FB3D5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C74E6-4866-45FD-BBFD-B1D598FD72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78C04-B877-4398-B859-FB349007D2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B72CD-4442-49D3-8574-8DAC0E4CB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FAC-4EE2-4009-954B-BE03AE3F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8FBEC-3343-4F41-BFBE-FDD77C7C26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2DD5E-2701-46B9-AA1A-8D558F9D8E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2D217-8212-4E03-B191-8E68484D6A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6E486-5666-446D-8D67-AF60F0CA4F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1EBD9-E754-4C1B-84CF-47388524E1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E6E72-2687-4E10-87A5-642FF93A9D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E9E0B-33F1-4EA2-8751-5E8FA9F452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54D4F-542B-4D10-AEB2-00C8215E88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A1C64-6C24-414A-86B0-CF6F48A471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6C7A-1412-46A0-AECA-FF609ED2E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989-05AD-40FB-BFF5-AA2E8456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4187-8560-48E7-B9C5-126E92289A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0CA9-BA33-4253-B477-61A7D32506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8E231-7F4F-4ED8-B91E-C077047AD2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CA73-1199-42BC-A17E-088E6A2007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8546-5712-4287-BAD1-0EE9C203EA6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9192-A593-454D-BC5C-CFFEA80812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6267-0F2D-4700-85AF-E5B377794F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10DC-35C1-4A49-8534-8B2773FFA0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A4AB-338F-455D-AEDD-C894E25FA3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9A13-5661-454D-B617-FB67DCB79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1E8-A7CC-4F1D-92BA-2AF513D7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AEB9-A61B-46A7-A53B-B5B9F2EC21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BEFA79-97EB-4532-9F2C-DDA40C11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72D19-38BA-40F6-BA5B-C5008CDD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66335-9495-47F4-A4DE-43EB9C86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F6666-6455-41A2-94FC-6CE77B55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06CE80-3691-4C3B-B458-7740BEB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73108-8CC8-4B4E-9820-0E2B97C1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2170D-A11C-4E4B-9329-FDC400D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2D1524-14F8-4219-A2E3-136196E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AC3AEA-D433-4DF4-9929-1705B27E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BEC-3993-4359-8513-3EED07D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9598DC-B7EF-4593-BCC7-6E54008F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6BD86-AA8D-42AC-A67E-09941574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248FC-53C9-41AC-BEBD-FC617E2E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FB5B-F741-4747-8A49-E46F6896E4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7E6C-A42A-44EE-B136-E6309333CF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C492-D3E2-4939-8AC4-C365455AA0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AEB7-A721-4134-9B88-76F48B231A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CF2C1-8097-4A95-961E-DB98488E47A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A9220-BA6A-4C52-820F-5F10615AE90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B2259-99CE-4595-AE71-6F9A3A8D3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B71-5F5C-4436-820C-D732F1EF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4494-203F-44A7-BEE4-01BEBE7233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4DF4-2FBA-473F-B883-D80B8521A78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4F99C-E3AF-4297-85FD-98EF596CD1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0123-4C3A-492B-8CC0-AE0A4FB6DB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07A6-3F7A-4916-BF8F-A074A2FC10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FD3BD-73CF-4DF1-95FA-72772EBAAE6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E3D07-9681-450B-B2D4-E8437B67CD4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94788-1BEE-4BE8-8767-CF9903AA4CB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09B1E-BE4D-4749-A9A3-9F97D72B0E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78358-860D-4B5C-8573-A2139E9B7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3BA-A958-4501-9DD8-1873D4FA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631A1-6C26-4584-AEA0-B82D22D2DBB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02F95-2021-4028-B59C-70D556A4EAC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90840-7EC2-44F3-9FCE-A718EE9ADC8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0FC2D-0FED-424D-A185-25E6C6D33F2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AF6D6-140F-4A77-9FC0-ED05736C60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147EB-F41D-4FBD-B1AA-A2F82A0AE12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168E8-40AD-4519-AE23-7DD2B57AB08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3B4DD1-B0A8-4392-91DB-67C88CB5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E00D0-ACBF-4942-9FF7-35303010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5AEE26-2A75-4CDA-AC1F-1F53A67B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68A0-6713-4222-A025-81F303A3D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CA59-AE7B-4158-B50B-5B9DA7C93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2258-22C5-4A5D-ABD0-F45518B59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6E19180-9393-44A4-88CE-21C8E6A377B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DB2EE4F-1245-4AC9-8B46-95F6693B30C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1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19E-6B3E-4815-A4CC-AB914B51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896B843-1826-40A5-AA4B-549824F7ADE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E156408-CC86-4A11-886A-3392D246A5B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3D3F949-BF1B-4385-8D6E-40A7A43091D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FC6-7E46-4C07-B10A-E840D06D6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w_4BTl4U_xlivM&amp;tbnid=mFmrQ4FAGOyrtM:&amp;ved=0CAUQjRw&amp;url=http%3A%2F%2Fwww.floridadiscountcoupons.com%2Fdiscount-ritas.htm&amp;ei=q1ifUYH2PMPz0gH2t4HwDg&amp;bvm=bv.47008514,d.dmQ&amp;psig=AFQjCNF5KXv1vOE-sI7XIxMFGX6ZRAAuRg&amp;ust=13694838130404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3gI9ms8Fdc" TargetMode="External"/><Relationship Id="rId2" Type="http://schemas.openxmlformats.org/officeDocument/2006/relationships/hyperlink" Target="http://youtu.be/frXlYeflkt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68F9-D2F4-4C17-B28A-FFA099A1BA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Promotion Unit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orts &amp; Entertainment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8E60-BDD3-4EBE-A53F-7E0BE597A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2 ~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bl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unpa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dia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positive or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product, service or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 Articles, TV News Stor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With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Releases, Speeches, Community Involvement through service &amp;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F890-1B7A-401D-92E1-50EB3F58E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1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les pro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incentives offere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mited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encourage consumers to buy a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ime Membershi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Hour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a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ms with company’s name printed on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304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3 ~ Sales Pro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6" descr="http://www.floridadiscountcoupons.com/images/ritas_bogo_coup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4290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91CB-C2C8-487E-A4B2-A3D4483FA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al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-person, face-to-face communication between a seller and a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dor to business bu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rep to stor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l Clerk to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6553080" y="4637160"/>
            <a:ext cx="2590920" cy="22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792C-D26A-469F-8630-714AC3E10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attention to questions/hes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able Salesper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product/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comparisons to simi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personal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questions and close the 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838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element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228600"/>
            <a:ext cx="785664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7D36-24B3-4F23-A5D7-7DD66E830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2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Advertising and Placement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scribe the steps involved in developing effective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use of product pla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BEF1-FD84-46B1-BE95-A62D2CA2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Opening Act ~ Page 26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how much it would cost to watch 10 episodes of your top 6 shows at a cost of $5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alternative ways production of TV programming could be fun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ys would be most appealing to TV vie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A6FB-4467-4B47-8EA0-CFFAE6556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umers about new products and services and helps consumers make comparisons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  <p:pic>
        <p:nvPicPr>
          <p:cNvPr id="459" name="Rectangle 5" descr=""/>
          <p:cNvPicPr/>
          <p:nvPr/>
        </p:nvPicPr>
        <p:blipFill>
          <a:blip r:embed="rId2"/>
          <a:stretch/>
        </p:blipFill>
        <p:spPr>
          <a:xfrm>
            <a:off x="334800" y="4479840"/>
            <a:ext cx="6731280" cy="209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86B4-803D-4931-98F1-5E0DD671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Step by Step </a:t>
            </a:r>
            <a:r>
              <a:rPr b="1" lang="en-US" sz="1900" spc="-1" strike="noStrike">
                <a:solidFill>
                  <a:srgbClr val="99ff66"/>
                </a:solidFill>
                <a:latin typeface="Arial Black"/>
              </a:rPr>
              <a:t>(described more in next slides)</a:t>
            </a:r>
            <a:endParaRPr b="1" lang="en-US" sz="1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 advertising requi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measurable advertising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advertising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n advertising t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advertising me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advertising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he effectiveness of the adverti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AF34-0C70-4E01-B1E1-2C150BCF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 ~ The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.M.A.R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cif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ur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tain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list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want to accomplish???   With Detai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 ~ The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the advertising budget by estimating the point at which an additional dollar spent on advertising equals additional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B5DC-4885-4AB9-AB75-C29D71358F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rts &amp; Entertainment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1 Promoting Sports &amp; Entertai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2 Advertising &amp; Plac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3 Publicity &amp; Sales Promo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895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9A4-A4AD-497C-923E-FB72D68E5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a percentage of expected sales revenues to the advertising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sum per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ertising budget based on the expected number of units to be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ve p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maintain the current share of 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a similar dollar amount or frequency of advertising as that of compet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~ The Budge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AB03-6C37-4ED5-A125-8763D9A92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305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 ~ The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g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e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ogan that conveys the main message of the a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#4 ~ The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wspaper, magazines, bags, billboard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cast/cabl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radio, T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home (billboards, stadium signs, rad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home (TV, magaz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48DF-74C2-4FFD-988A-7BC5FC867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Mix selected is primarily base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dvertising budget and target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ing the media that will bring the most effective advertising message to the targeted consu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eople in the target market expected to receive the message through the chosen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6858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 ~ The Medi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DFD0-5E8F-4EDF-A294-6380A323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s to be spoken or printed in the advertis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work, Photos, Video added to enhance viewers’ interest and grab their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r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dvertising loses its effectiveness due to overexposure or poor messag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 ~ 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27EE-3449-4C05-82E9-3CCC7DF8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times the targeted customer is exposed to the medi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ying / relying on a single med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ce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irm buys the maximum reach and frequency in one medium and purchases additional space in or time on other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 ~ Th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B77D-1FAA-4C83-B1E7-659693E63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=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d doesn’t meet our goal, it’s cost &amp; efforts were was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shape and improve future advertising strateg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pon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customers who connect with and act in relation to the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ed, complied, examine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~ Th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727F-18A2-43EF-9144-A7A788528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t’s Showti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Fall TV shows are “pitched” to ad firms before airing. (Spring meeting/presen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 Firms buy time slots based on compatibility  of potential viewing audien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im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largest viewing audiences are watching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st expen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ime to adv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d based on expected audience ra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BF65-901C-4537-84B9-912A4B05E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advertising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gage view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e them to take specific 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communications can be used to create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active conn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potential custome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53F7-CA02-4A04-961B-573090504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tiac – contest to photograph new G6 with phones to enter for a chance to win $1 Mill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people to look for G6 on the street, visit the dealership, attend the car show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publicity &amp;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edias ran the story/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Messaging &amp; Twitter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s watching LIVE TV rather than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F990-E8D6-4C9F-BD67-116417E92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4920" y="289512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easurable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effectiveness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"/>
          <p:cNvSpPr/>
          <p:nvPr/>
        </p:nvSpPr>
        <p:spPr>
          <a:xfrm>
            <a:off x="2514600" y="685800"/>
            <a:ext cx="6629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steps involved in developing effective adverti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682-9978-46D6-9918-353680B8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1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romoting Sports and Entertainment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8007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goal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fine four element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9B42-B387-4D23-99BA-AD8E8015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CT PLAC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placement is a fast growing form of sales promotion used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ms (Mov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th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placement can be used to offset the need for traditional advertis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289548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00F4-D643-4184-91FF-773EEDE16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Brainst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9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 Network ~ Show “24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Free Episode included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3-minute ads by Ford Motor Comp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t beginning and end of show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Character, Jack Bauer, drives a Ford Expedition and other Fords are seen throughout the sh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other products have you se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ly placed in Movies, TV or The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074E-DC43-4D61-9002-B1B36DCA1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Who Pay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common ways that product placement deals might be construct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rporation wil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y a f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film’s producers for prominent product plac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very expensive product is needed, it may b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vided for 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film in exchange for the prominent display of the brand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promotes movie in product advertising in exchange for product placement.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C98F-4AF3-405A-B27B-9D801F22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ree ways product placement deals are constr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ious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525D-7B24-40A0-8F1E-88B5AB17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3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ublicity &amp; Sales Promotion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ublicity and explain its role in creating a positive public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various types of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D06-8B76-4ECF-84E9-2E1825569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publicity is fre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is controll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that are presenting the mess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motional too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0EA5-7F67-4CF0-BF09-D408CD27A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oodw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’ positive feelings about th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ity Events, Marathons (Walks, 5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- Pledg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onations – for public acknowledg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F85B-7CEB-4ADD-AC12-71DAFB57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Damage Contr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who is responsible for maintaining relations with the public and news me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mag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empt to refute, justify, or downplay nega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s to focus attention on more posi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BED-0945-4D20-B5CA-7F364640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rass-Roots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ss-roots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unknown person or event is propelled into the spotlight by fa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campa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motion where a few online mentions turn into a real buzz about a mo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s the movie into a mega h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trotur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fake grass-roots effort (forced, f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8F14-542C-4D61-BB88-4F6130E14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mage is Every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relations (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 of promotion that tries to create a favorable public opinion for an individual or organiz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th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relations focus on the future with the intent of creating a positive image of the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kesperson: must know the desired image and represent the company message, profession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5612-5BD4-42BF-B5B3-D0D552EE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URPOSE OF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making customers aware of a product, service, o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imary Goal =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INCREAS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ning new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ing customers to be loy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705720" y="2286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3919-E50A-4204-B888-9642DECA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letes &amp; Their Public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 athletes feel the pressure of being public role models while meeting athletic performance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par performances = disappointing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can lead to immature, bad decis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 to keep a positive public imag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ty involvement, Charities, et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positive-caring, giving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Coverage  leads people to believe they are overpaid for their talents.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Negative – greedy, thoughtl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6107-F291-4D76-9DD0-06EDDFD7C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6" descr="http://t1.gstatic.com/images?q=tbn:ANd9GcSvG8AbujcaAkqrUajl3WExhGj6f8-Re228i9vSLsmj0BJmQty2"/>
          <p:cNvPicPr/>
          <p:nvPr/>
        </p:nvPicPr>
        <p:blipFill>
          <a:blip r:embed="rId1"/>
          <a:stretch/>
        </p:blipFill>
        <p:spPr>
          <a:xfrm>
            <a:off x="4952880" y="457200"/>
            <a:ext cx="3895920" cy="3895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http://missourisportsmag.com/wp-content/uploads/2011/12/big_brothers_big_sisters_logo.jpg"/>
          <p:cNvPicPr/>
          <p:nvPr/>
        </p:nvPicPr>
        <p:blipFill>
          <a:blip r:embed="rId2"/>
          <a:stretch/>
        </p:blipFill>
        <p:spPr>
          <a:xfrm>
            <a:off x="228600" y="4191120"/>
            <a:ext cx="4495680" cy="2286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http://ww1.prweb.com/prfiles/2008/12/05/281058/MarchOfDimesLogo.gif"/>
          <p:cNvPicPr/>
          <p:nvPr/>
        </p:nvPicPr>
        <p:blipFill>
          <a:blip r:embed="rId3"/>
          <a:stretch/>
        </p:blipFill>
        <p:spPr>
          <a:xfrm>
            <a:off x="4952880" y="4572000"/>
            <a:ext cx="39909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http://www.infobarrel.com/media/image/9471.jpg"/>
          <p:cNvPicPr/>
          <p:nvPr/>
        </p:nvPicPr>
        <p:blipFill>
          <a:blip r:embed="rId4"/>
          <a:stretch/>
        </p:blipFill>
        <p:spPr>
          <a:xfrm>
            <a:off x="228600" y="457200"/>
            <a:ext cx="4495680" cy="355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85CE-F91A-4F48-A884-DD4AEF842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Day Imag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need to maintain a positive re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lent service, cleanliness, saf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and sports fans need to have a positive image to encourag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i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ttend gam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ally helps area and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 reputation: keeps people a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753-5427-40EC-9216-372A00A3C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publicity different fr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ype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 is free exposure but not really controlled by the business or person receiv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o it can be neg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2B0-B180-408A-93BE-454B08AE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promotions are marketing efforts that o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an additional incentiv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mited time motivator to make a purc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positive influen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reluctant pot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into buy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D444-971B-42E5-8A94-81AB622B0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Consumer Sales Promo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sales promo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at the final consumer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6A3C-FAA6-4596-AFBF-73E9D40BC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Trad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d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ales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ed at members of the distribution chann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hort-term discounts to distributors and retailers for selling or participating in the promotion of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 the most, get a r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-of-purchase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materials provided to help sel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6CE6-4D52-4CFD-AA60-12F5B90D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Employe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sh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tra commission paid to sales persons who sell or push particu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an appliance manufacturer offers a bonus for selling a washer or dryer from a line that has been discontinu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C:\Users\jsundlin\AppData\Local\Microsoft\Windows\Temporary Internet Files\Content.IE5\QHETRDYM\MC900440391[1].png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5BC-50A7-45A0-BCA3-7F9261B68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consumer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C171-4811-428F-BBE3-0182E785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Promotional Go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goal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ustomers’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ing customer l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a fan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ng potential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coming the hesitation of first-time bu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C:\Users\jsundlin\AppData\Local\Microsoft\Windows\Temporary Internet Files\Content.IE5\N2PGMTO6\MC900199897[1].wmf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6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ricing / Special pr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1 Adult ticket, get child ticket ½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attendance, builds fan b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ime suppor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d tickets, discount p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s loyalty with current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B6AC-E579-4B48-A5B8-B3BFF31C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L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elements of promotion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(next 4 slides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30492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09BF-FF3A-427F-B664-37D295F4B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 of communication delivered by a product maker or seller to consu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dverti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people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explain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 customers of WHERE they can get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can: take many forms, appear in almost any media and reach millions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5303880" y="228600"/>
            <a:ext cx="384012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0435-8113-4B25-8CE0-B062D3D2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duct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duct integrated into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of a television show or a mov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cr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uman Show – Commercials during sho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ie Trailer -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c3gI9ms8Fd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ke Commercials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youtu.be/frXlYeflkt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9:58-12: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6" descr="http://emerging-advertising-media.wikispaces.com/file/view/Movie-product-placement.jpg/101108179/Movie-product-placement.jpg"/>
          <p:cNvPicPr/>
          <p:nvPr/>
        </p:nvPicPr>
        <p:blipFill>
          <a:blip r:embed="rId3"/>
          <a:stretch/>
        </p:blipFill>
        <p:spPr>
          <a:xfrm>
            <a:off x="6705720" y="304920"/>
            <a:ext cx="217152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3-05-24T15:14:05Z</dcterms:modified>
  <cp:revision>730</cp:revision>
  <dc:subject/>
  <dc:title>Chapter 11</dc:title>
</cp:coreProperties>
</file>